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himes.wav" ContentType="audio/x-wav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642B-3448-4A22-BB16-54F5EF8F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9228-2213-42EE-87D3-C9F0EC62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511A-4009-4D45-AB20-AE6CF02B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E17B-4B2C-494F-9C5E-5DCA1092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EE44-96EB-4735-93C8-90032D66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E487-410B-4A34-B8BD-CDC33C13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E91B-7F6D-4669-8DA1-D450176B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94FD-49FE-451B-8E7A-C85C92C5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6614-8583-44F3-9C09-929D90DC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2D85-F3B1-4E8F-AECA-D29290A7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90BD-212A-4267-8D9B-98AC3688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BBCB-3B09-4048-9258-201CA5F7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C1BD-E81E-42E5-9C52-6840A623AA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8785440" cy="588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43280" y="292428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宋体"/>
              </a:rPr>
              <a:t>熟视无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26920" y="1125360"/>
            <a:ext cx="2808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生字学习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与肖邦共舞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与风筝共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与压力共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与蝴蝶共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与世界杯共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与奥运会共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与《西游记》共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8785440" cy="588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71640" y="1989000"/>
            <a:ext cx="7345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宋体"/>
              </a:rPr>
              <a:t>熟视无睹   有目共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宋体"/>
              </a:rPr>
              <a:t>先睹为快   耳闻目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26920" y="1125360"/>
            <a:ext cx="2808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生字学习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36572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宋体"/>
              </a:rPr>
              <a:t>松弛  按摩   尴尬  气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泰国，大象对人群已经（       ），所以，你遇到的大象，神经完全可以松弛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泰国，据说最有意思的是大象为人做按摩，去那里旅游的人都想（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泰国，做按摩的大象偶尔也会跟人开玩笑，这是观众（      ）的事儿，你不必惊奇，也不必尴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泰国，你（　　）象群和人群在欢乐的音乐声中翩翩起舞的场面，你陶醉其中，难以忘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泰国遇到大象是很自然的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341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象是泰国的国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06064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泰国人和象没有距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285264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象是一种聪明有灵气的动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3645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使我难以忘怀的是看大象跳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舞蹈的大象，没有一点儿笨重的感觉，它们随着音乐的节奏摇头晃脑，踮脚抬腿，前后左右颤动着身子，长长的鼻子在空中挥舞。毫无疑问，它们和人一样，陶醉在音乐之中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欢乐的音乐声中，象群翩翩起舞，观众都拥到了宽阔的场地上，人群和象群混杂在一起舞之蹈之，热烈的气氛感染了在场的每一个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3384720" cy="3960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788000" y="1484280"/>
            <a:ext cx="37368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87280" y="907920"/>
            <a:ext cx="712980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与龙共舞              与鲨共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与雪共舞              与墙共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方正电脑</cp:lastModifiedBy>
  <dcterms:modified xsi:type="dcterms:W3CDTF">2011-06-08T08:15:02Z</dcterms:modified>
  <cp:revision>1144</cp:revision>
  <dc:subject/>
  <dc:title>幻灯片 1</dc:title>
</cp:coreProperties>
</file>