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0D8-9BE3-4337-B2C9-E13A86A6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9CB-52C1-4597-BA5A-22EE3F4E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CD2-4E25-49DC-ACBD-C0B01B39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A20-2044-4DD6-944E-116FB10F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C9784-6219-4DA7-B66A-E3BEE8F9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96A14-7AA5-4751-A1D3-D4F3F627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748EF-E7F3-442B-AEBA-57262103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88753-ED06-41CF-8785-32333F6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96198-BC30-4C02-B9F0-A84CD524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91B75-BC32-483F-B3AC-E15953D8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CCF12-A0CA-416F-A382-5157A0AD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B95-DD57-48EF-9583-7CC53508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5D579-1B52-4E4F-B3A4-79B18E7C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B2AA2-55A4-4608-AF24-89A26C7A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4D5E6-E484-4B94-B412-CCC245C3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E3D95-4B4E-4E3C-A4DE-73DFFB30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8467A-AEDE-4416-9F42-0BD462E9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732-CB99-4568-AE2B-FC7CA0BA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A47-5FB5-41AB-87C4-072F68C8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F2C-38F3-4FC0-B968-D7EE6FC8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211-C161-470F-97F1-1A0DA472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D86-DA8D-425B-98C0-05173525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43E-4786-4E79-967E-C858550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720-4773-452D-99D9-FD0B4C75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112F-E05E-4DC8-BC59-BD0B75C9728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376D-5D43-441E-92A0-B313C2B66AC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0316;&#19994;&#35774;&#35745;&#20043;&#22826;&#38451;&#19982;&#22763;&#20853;.doc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58920" y="1197000"/>
            <a:ext cx="61927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太阳与士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89480" y="515880"/>
            <a:ext cx="355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分角色朗读太阳与士兵的对话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体会文章所表达出的边防战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对祖国的忠诚之情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94400" y="2023920"/>
            <a:ext cx="440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能把握课文的主要内容，并归纳出作者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哪几个方面写的，提高概括能力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5160" y="3284640"/>
            <a:ext cx="7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帮助学生认识五个生字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94400" y="4076640"/>
            <a:ext cx="440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对有条件的学生可以指导他们读后练习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用书信的形式写出读后感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034720" y="765000"/>
            <a:ext cx="487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初读对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以个体自读为主，把字音读正确，把句子读通顺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想想一共有多少次对话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52960" y="0"/>
            <a:ext cx="4944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再读对话，一边读，一边想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每次对话主要说了什么内容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你从中感受到了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东方一哨”士兵怎样的形象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、读第一次对话，要想象士兵们清晨高唱上岗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在太阳照耀下升旗的情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、读第二次对话，要想象士兵们用自己的双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在荒凉的小哨所上建起升旗场的情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、读第三次对话，要想象士兵们年复一年在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天雪地迎风站哨的情景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04160" y="635040"/>
            <a:ext cx="570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注意下面句子中划线的词，想想这样写所包含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意思和情感，再有感情地读一读这几句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北国的松，江南的竹，中原的月季，陕北的向日葵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每一料种子都</a:t>
            </a:r>
            <a:r>
              <a:rPr b="1" i="1" lang="zh-CN" sz="2800" spc="-1" strike="noStrike" u="sng">
                <a:solidFill>
                  <a:srgbClr val="001746"/>
                </a:solidFill>
                <a:uFillTx/>
                <a:latin typeface="Arial"/>
              </a:rPr>
              <a:t>带着战士的馨香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在这里落户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我们要将我们</a:t>
            </a:r>
            <a:r>
              <a:rPr b="1" i="1" lang="zh-CN" sz="2800" spc="-1" strike="noStrike" u="sng">
                <a:solidFill>
                  <a:srgbClr val="001746"/>
                </a:solidFill>
                <a:uFillTx/>
                <a:latin typeface="Arial"/>
              </a:rPr>
              <a:t>全部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的光和热，献给祖国，献给人民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献给您——伟大的祖国！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49800" y="331920"/>
            <a:ext cx="358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问题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“……”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说明边防战士们来自祖国各地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带着战士的馨香”说明了战士们是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着对祖国无限忠诚的情感建升旗场的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2120" y="2708280"/>
            <a:ext cx="7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问题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感受到了边防军对祖国的无限赤诚之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36080" y="641520"/>
            <a:ext cx="5257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为课文插图配一首小诗，题目是《太阳与士兵》。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989000"/>
            <a:ext cx="94615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给“东方第一哨”的解放军叔叔写一封信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倾吐你心中想说的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作业设计之太阳与士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332000" y="981000"/>
            <a:ext cx="5689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大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4:17:29Z</dcterms:created>
  <dc:creator>微软用户</dc:creator>
  <dc:description/>
  <dc:language>en-US</dc:language>
  <cp:lastModifiedBy>微软用户</cp:lastModifiedBy>
  <dcterms:modified xsi:type="dcterms:W3CDTF">2009-09-14T03:29:12Z</dcterms:modified>
  <cp:revision>4</cp:revision>
  <dc:subject/>
  <dc:title>幻灯片 1</dc:title>
</cp:coreProperties>
</file>