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6BE-5BDD-4F8A-896B-C78BFE24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FE6-7D32-4860-9886-CA3979E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6EC-2EB6-40E7-B8AB-137B7F19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6C3-32BF-48BD-B045-1E2C3F0F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EE14C-3BF3-4E9C-AFD2-1CD72219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77723-4A94-48D0-B4B8-8EB6CB0C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B76C2-9F60-4B67-9FE1-1C454941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A15C2-1DA7-4423-9189-2571BD89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22638-2875-4E41-A89B-CEE40A13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32C16-DB9F-44A9-9184-6F6BAEEE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73C62-3466-4299-9827-C84B7211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CC7-5345-4CE7-8178-A6F640B3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7B107-8398-486E-BE99-ED79A95F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F49DD-A326-48F3-BE64-B90319D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86CE5-D879-426A-A039-70276779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FE201-0F4F-48FC-8E7E-40077004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D7A47-6806-4430-A86D-CA8D9841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614-C5E5-483F-B461-ACAE0A6E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45B-E860-41D5-A898-EF6A154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67A-CD77-4837-99EA-9705D772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87B-C7FD-4767-A017-C0097999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BD8-786D-4C86-A495-7E30EA1F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02F-8640-4BBB-8B28-E9F3312A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BF1-CF88-4F17-BC0D-FCDDAFB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649E-7C0D-4634-8735-19D7EEF059F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DEEB-3E4F-46C8-8814-D16C3D6341B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619280" y="907920"/>
            <a:ext cx="5400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7*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望 大 陆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51640" y="407664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于佑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194472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58920" y="1341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默读课文，思考：诗人有什么嘱咐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84800" y="1989000"/>
            <a:ext cx="37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葬我于高山之上（</a:t>
            </a:r>
            <a:r>
              <a:rPr b="1" lang="zh-CN" sz="2000" spc="-1" strike="noStrike">
                <a:solidFill>
                  <a:srgbClr val="808000"/>
                </a:solidFill>
                <a:latin typeface="Arial"/>
                <a:ea typeface="黑体"/>
              </a:rPr>
              <a:t>为什么要</a:t>
            </a:r>
            <a:r>
              <a:rPr b="1" lang="zh-CN" sz="2000" spc="-1" strike="noStrike">
                <a:solidFill>
                  <a:srgbClr val="808000"/>
                </a:solidFill>
                <a:latin typeface="Arial"/>
              </a:rPr>
              <a:t>葬我于高山之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3141720"/>
            <a:ext cx="165564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望我故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3141720"/>
            <a:ext cx="165564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望我大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195640" y="2565360"/>
            <a:ext cx="57600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11640" y="2565360"/>
            <a:ext cx="50328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00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一说诗人为什么要“望我故乡”“望我大陆”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5013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因为作者始终思念故乡、心系大陆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467080"/>
            <a:ext cx="8496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 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　     （爱国思乡之情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故 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板书设计：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71640" y="1197000"/>
            <a:ext cx="684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葬我于高山之上兮，望我故乡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故乡不可见兮，永不能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葬我于高山之上兮，望我大陆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陆不可见兮，只有痛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天苍苍，野茫茫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山之上，国有殇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620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朗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146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4000" y="155736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时候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乡愁是一枚小小的邮票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在这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母亲在那头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大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乡愁是一张窄窄的船票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在这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新娘在那头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后来呵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乡愁是一方矮矮的坟墓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在外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母亲在里头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现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乡愁是一湾浅浅的海峡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在这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陆在那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26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乡 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9079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【余光中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172360" y="0"/>
            <a:ext cx="8431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1849320"/>
            <a:ext cx="8640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光中，祖籍福建永春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于江苏南京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入金陵大学外语系（后转入厦门大学）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随父母迁香港，次年赴台，就读于台湾大学外文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毕业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与覃子豪、钟鼎文等共创“蓝星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社。后赴美进修，获爱荷华大学艺术硕士学位。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后任诗大、政大、台大及香港中文大学教授，现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湾中山大学文学院院长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085760" cy="143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029320" y="692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余光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700280"/>
            <a:ext cx="849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9280" y="17733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谨以此课祝我们伟大的祖国早日统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88609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822760" cy="1760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106520" y="2348640"/>
            <a:ext cx="9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、能正确、熟练并有感情地朗读课文，背诵全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26720" y="3788640"/>
            <a:ext cx="52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、说一说诗人为什么要“望我故乡”“望我大陆”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547640" y="2060640"/>
            <a:ext cx="5472360" cy="22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同学们再见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初步掌握现代诗朗诵的基本方法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诵读中体味诗人浓烈的怀乡思     国之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38440" cy="132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9280" y="206064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右任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879-1964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族，陕西三原人，原名伯循，别署骚心、太平老人。诗人，书法家，政治家。清光绪二十九年举人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追随孙中山加入同盟会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与宋教仁等人创作《民立报》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任南京临时政府交通部次长，曾致力于反对袁世凯的斗争。后曾任上海大学校长等职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去台湾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逝世于台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0880" y="765000"/>
            <a:ext cx="14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于 右 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773360"/>
            <a:ext cx="799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1628640"/>
            <a:ext cx="842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人民解放军攻入南京，于先生撇下妻小被迫随国民党去了台湾。到了晚年，特别想念大陆，想念他的家乡，想念他的妻子，想念他的女儿。他常常登上台湾的高山之巅眺望大陆，一站就是好几个小时，任泪水肆意流淌。他多么想回去看一看家乡，看一看家乡的亲人，看一看故土的一草一木啊！但是，他想回却回不来啊！一湾浅浅的海峡却铸成他永远的遗憾！</a:t>
            </a:r>
            <a:br>
              <a:rPr sz="32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　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762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写作背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1655640"/>
            <a:ext cx="828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于右任先生在台北病逝。后人从他的遗物中发现两张字条，一张上书：“我百年后，愿葬玉山或阿里山树木多的高处，可以时时望大陆。”旁注：“山要最高者，树要最大者”。还在“高”字旁划了一个圈，强调登高遥望大陆的心情。另一张纸所书即本文内容了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76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写作背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84360" y="0"/>
            <a:ext cx="7127640" cy="65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望大陆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右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葬我于高山之上兮，望我大陆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陆不可见兮，只有痛哭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葬我于高山之上兮，望我故乡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乡不可见兮，永不能忘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苍苍，野茫茫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之上，国有殇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256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兮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25080" y="3141720"/>
            <a:ext cx="338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文言助词，相当于现在的“啊！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00480" y="5013360"/>
            <a:ext cx="52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书面语。人没到成年即死去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95200" y="4292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殇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206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3860640"/>
            <a:ext cx="122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hā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944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03280" y="2060640"/>
            <a:ext cx="61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葬我于高山之上兮，望我故乡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故乡不可见兮，永不能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葬我于高山之上兮，望我大陆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陆不可见兮，只有痛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天苍苍，野茫茫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山之上，国有殇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907920"/>
            <a:ext cx="756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让我们一齐来把这首哀歌，这段绝唱，这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遗嘱一齐感情朗读吧！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89072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39920" y="1124640"/>
            <a:ext cx="152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cc"/>
                </a:solidFill>
                <a:latin typeface="黑体"/>
                <a:ea typeface="黑体"/>
              </a:rPr>
              <a:t>理解意思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《望大陆》于右任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1944720" cy="520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508464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苍苍，野茫茫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之上，国有殇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844640"/>
            <a:ext cx="142920" cy="1224000"/>
          </a:xfrm>
          <a:custGeom>
            <a:avLst/>
            <a:gdLst>
              <a:gd name="textAreaLeft" fmla="*/ 0 w 142920"/>
              <a:gd name="textAreaRight" fmla="*/ 514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66"/>
                </a:lnTo>
                <a:cubicBezTo>
                  <a:pt x="10800" y="9466"/>
                  <a:pt x="16200" y="10366"/>
                  <a:pt x="21600" y="10366"/>
                </a:cubicBezTo>
                <a:cubicBezTo>
                  <a:pt x="16200" y="10366"/>
                  <a:pt x="10800" y="11266"/>
                  <a:pt x="10800" y="1216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522936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苍天空阔，四野茫茫， 高山之上，客死异乡的孤魂在游荡</a:t>
            </a:r>
            <a:r>
              <a:rPr b="0" lang="zh-CN" sz="2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19890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把我葬在高山之上啊 ！遥望我的故乡，故乡看不见啊！刻骨难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335772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葬我于高山之上兮，望我大陆；大陆不可见兮，只有痛哭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0028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葬我于高山之上兮，望我故乡；故乡不可见兮，永不能忘。 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5084640"/>
            <a:ext cx="142920" cy="1224000"/>
          </a:xfrm>
          <a:custGeom>
            <a:avLst/>
            <a:gdLst>
              <a:gd name="textAreaLeft" fmla="*/ 0 w 142920"/>
              <a:gd name="textAreaRight" fmla="*/ 514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66"/>
                </a:lnTo>
                <a:cubicBezTo>
                  <a:pt x="10800" y="9466"/>
                  <a:pt x="16200" y="10366"/>
                  <a:pt x="21600" y="10366"/>
                </a:cubicBezTo>
                <a:cubicBezTo>
                  <a:pt x="16200" y="10366"/>
                  <a:pt x="10800" y="11266"/>
                  <a:pt x="10800" y="1216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3500280"/>
            <a:ext cx="142920" cy="1224000"/>
          </a:xfrm>
          <a:custGeom>
            <a:avLst/>
            <a:gdLst>
              <a:gd name="textAreaLeft" fmla="*/ 0 w 142920"/>
              <a:gd name="textAreaRight" fmla="*/ 514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66"/>
                </a:lnTo>
                <a:cubicBezTo>
                  <a:pt x="10800" y="9466"/>
                  <a:pt x="16200" y="10366"/>
                  <a:pt x="21600" y="10366"/>
                </a:cubicBezTo>
                <a:cubicBezTo>
                  <a:pt x="16200" y="10366"/>
                  <a:pt x="10800" y="11266"/>
                  <a:pt x="10800" y="1216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350028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把我葬在高山之上啊 ！遥望我的大陆，大陆看不见啊！只有痛哭</a:t>
            </a:r>
            <a:r>
              <a:rPr b="0" lang="zh-CN" sz="2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8:49:59Z</dcterms:created>
  <dc:creator>liuqi</dc:creator>
  <dc:description/>
  <dc:language>en-US</dc:language>
  <cp:lastModifiedBy>pc</cp:lastModifiedBy>
  <dcterms:modified xsi:type="dcterms:W3CDTF">2013-10-06T00:59:15Z</dcterms:modified>
  <cp:revision>28</cp:revision>
  <dc:subject/>
  <dc:title>幻灯片 1</dc:title>
</cp:coreProperties>
</file>