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F5AC-C5B1-44E2-B049-F81730632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9219-CE05-4394-8A3E-721CD5E1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D598-0DC6-4B83-9897-7A000F026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411F-8793-4D75-A86E-2823360F6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2F4E-0934-48C6-BD45-E1696260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60BA-39AB-4051-8682-DEC20E7A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430B-242B-49DC-B4EC-C73BCC78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DC5B-2B57-406E-965B-8603AF8C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4E9C-D5D6-4BE5-9E2C-95B50092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D109-057B-408C-B219-5D74EC6D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92B7-E315-482C-842B-6A1955CF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E0D9-B388-42D1-8331-4A6D52A9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BFD2-642D-48AB-9F25-058E315AB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" descr=""/>
          <p:cNvPicPr/>
          <p:nvPr/>
        </p:nvPicPr>
        <p:blipFill>
          <a:blip r:embed="rId1"/>
          <a:srcRect l="0" t="27015" r="42624" b="0"/>
          <a:stretch/>
        </p:blipFill>
        <p:spPr>
          <a:xfrm>
            <a:off x="3127320" y="3311640"/>
            <a:ext cx="3524400" cy="3363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25480" y="450720"/>
            <a:ext cx="632952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身穿绿衣裳，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露着白肚皮，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专捉害虫保庄稼，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唱起歌来顶呱呱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青蛙" descr=""/>
          <p:cNvPicPr/>
          <p:nvPr/>
        </p:nvPicPr>
        <p:blipFill>
          <a:blip r:embed="rId2"/>
          <a:stretch/>
        </p:blipFill>
        <p:spPr>
          <a:xfrm>
            <a:off x="187200" y="9360"/>
            <a:ext cx="6192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30772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2" descr="图片2"/>
          <p:cNvPicPr/>
          <p:nvPr/>
        </p:nvPicPr>
        <p:blipFill>
          <a:blip r:embed="rId1"/>
          <a:srcRect l="9669" t="448" r="0" b="-441"/>
          <a:stretch/>
        </p:blipFill>
        <p:spPr>
          <a:xfrm>
            <a:off x="-25560" y="1440"/>
            <a:ext cx="9169560" cy="6937560"/>
          </a:xfrm>
          <a:prstGeom prst="rect">
            <a:avLst/>
          </a:prstGeom>
          <a:ln w="0">
            <a:noFill/>
          </a:ln>
        </p:spPr>
      </p:pic>
      <p:grpSp>
        <p:nvGrpSpPr>
          <p:cNvPr id="102" name="组合 2"/>
          <p:cNvGrpSpPr/>
          <p:nvPr/>
        </p:nvGrpSpPr>
        <p:grpSpPr>
          <a:xfrm>
            <a:off x="1011240" y="1003320"/>
            <a:ext cx="7873920" cy="1393920"/>
            <a:chOff x="1011240" y="1003320"/>
            <a:chExt cx="7873920" cy="1393920"/>
          </a:xfrm>
        </p:grpSpPr>
        <p:sp>
          <p:nvSpPr>
            <p:cNvPr id="103" name="Text Box 5"/>
            <p:cNvSpPr/>
            <p:nvPr/>
          </p:nvSpPr>
          <p:spPr>
            <a:xfrm>
              <a:off x="2115360" y="1460880"/>
              <a:ext cx="6769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b050"/>
                  </a:solidFill>
                  <a:latin typeface="黑体"/>
                  <a:ea typeface="黑体"/>
                </a:rPr>
                <a:t>我会说</a:t>
              </a:r>
              <a:r>
                <a:rPr b="1" lang="zh-CN" sz="3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：青蛙在诗中都写了哪些内容？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2" descr=""/>
            <p:cNvPicPr/>
            <p:nvPr/>
          </p:nvPicPr>
          <p:blipFill>
            <a:blip r:embed="rId2"/>
            <a:stretch/>
          </p:blipFill>
          <p:spPr>
            <a:xfrm>
              <a:off x="1011240" y="1003320"/>
              <a:ext cx="1162440" cy="1393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" name="Picture 4" descr=""/>
          <p:cNvPicPr/>
          <p:nvPr/>
        </p:nvPicPr>
        <p:blipFill>
          <a:blip r:embed="rId3"/>
          <a:stretch/>
        </p:blipFill>
        <p:spPr>
          <a:xfrm>
            <a:off x="6205680" y="2600280"/>
            <a:ext cx="2879640" cy="2255760"/>
          </a:xfrm>
          <a:prstGeom prst="rect">
            <a:avLst/>
          </a:prstGeom>
          <a:ln w="0">
            <a:noFill/>
          </a:ln>
        </p:spPr>
      </p:pic>
      <p:grpSp>
        <p:nvGrpSpPr>
          <p:cNvPr id="106" name="组合 10"/>
          <p:cNvGrpSpPr/>
          <p:nvPr/>
        </p:nvGrpSpPr>
        <p:grpSpPr>
          <a:xfrm>
            <a:off x="647640" y="2465280"/>
            <a:ext cx="6326280" cy="2836080"/>
            <a:chOff x="647640" y="2465280"/>
            <a:chExt cx="6326280" cy="2836080"/>
          </a:xfrm>
        </p:grpSpPr>
        <p:sp>
          <p:nvSpPr>
            <p:cNvPr id="107" name="圆角矩形标注 3"/>
            <p:cNvSpPr/>
            <p:nvPr/>
          </p:nvSpPr>
          <p:spPr>
            <a:xfrm>
              <a:off x="727560" y="2660040"/>
              <a:ext cx="5406840" cy="2472840"/>
            </a:xfrm>
            <a:prstGeom prst="wedgeRoundRectCallout">
              <a:avLst>
                <a:gd name="adj1" fmla="val 68939"/>
                <a:gd name="adj2" fmla="val -32481"/>
                <a:gd name="adj3" fmla="val 16667"/>
              </a:avLst>
            </a:prstGeom>
            <a:solidFill>
              <a:srgbClr val="ffffff"/>
            </a:solidFill>
            <a:ln w="12600">
              <a:solidFill>
                <a:srgbClr val="daed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矩形 5"/>
            <p:cNvSpPr/>
            <p:nvPr/>
          </p:nvSpPr>
          <p:spPr>
            <a:xfrm>
              <a:off x="647640" y="2465280"/>
              <a:ext cx="6326280" cy="28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青蛙的诗写成了：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“</a:t>
              </a:r>
              <a:r>
                <a:rPr b="1" lang="zh-CN" sz="40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呱呱，呱呱，呱呱呱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呱呱，呱呱，呱呱呱</a:t>
              </a:r>
              <a:r>
                <a:rPr b="1" lang="zh-CN" sz="4000" spc="-1" strike="noStrike">
                  <a:solidFill>
                    <a:srgbClr val="0000ff"/>
                  </a:solidFill>
                  <a:latin typeface="宋体"/>
                </a:rPr>
                <a:t>……</a:t>
              </a:r>
              <a:r>
                <a:rPr b="1" lang="zh-CN" sz="40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”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4368960" y="1260360"/>
            <a:ext cx="4319280" cy="4672080"/>
          </a:xfrm>
          <a:prstGeom prst="rect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呱呱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呱呱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呱呱呱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呱呱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呱呱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呱呱呱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514440" y="1260360"/>
            <a:ext cx="3419280" cy="4672080"/>
          </a:xfrm>
          <a:prstGeom prst="rect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呱呱呱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呱呱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呱呱呱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呱呱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图片1"/>
          <p:cNvPicPr/>
          <p:nvPr/>
        </p:nvPicPr>
        <p:blipFill>
          <a:blip r:embed="rId1"/>
          <a:stretch/>
        </p:blipFill>
        <p:spPr>
          <a:xfrm>
            <a:off x="0" y="-1778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矩形 1"/>
          <p:cNvSpPr/>
          <p:nvPr/>
        </p:nvSpPr>
        <p:spPr>
          <a:xfrm>
            <a:off x="453960" y="365040"/>
            <a:ext cx="78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有了大家的帮忙，小青蛙的诗写成了，他写的诗到底是什么呢？发挥想象补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1187280" y="551160"/>
            <a:ext cx="6337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蝌蚪，蝌蚪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小逗号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水泡，水泡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小句号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水珠，水珠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省略号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多亏大家来帮忙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我的小诗才很长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6" descr="图片1"/>
          <p:cNvPicPr/>
          <p:nvPr/>
        </p:nvPicPr>
        <p:blipFill>
          <a:blip r:embed="rId1"/>
          <a:stretch/>
        </p:blipFill>
        <p:spPr>
          <a:xfrm>
            <a:off x="0" y="-39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矩形 2"/>
          <p:cNvSpPr/>
          <p:nvPr/>
        </p:nvSpPr>
        <p:spPr>
          <a:xfrm>
            <a:off x="639720" y="264960"/>
            <a:ext cx="7862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呱呱，这里的景色太美了！呱呱，谢谢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____________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！呱呱，让我们一起留住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________________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2335680" y="12668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朋友们的帮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3234240" y="21272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美好的图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1" descr="图片1"/>
          <p:cNvPicPr/>
          <p:nvPr/>
        </p:nvPicPr>
        <p:blipFill>
          <a:blip r:embed="rId1"/>
          <a:stretch/>
        </p:blipFill>
        <p:spPr>
          <a:xfrm>
            <a:off x="-36360" y="-120600"/>
            <a:ext cx="9216720" cy="7101000"/>
          </a:xfrm>
          <a:prstGeom prst="rect">
            <a:avLst/>
          </a:prstGeom>
          <a:ln w="0">
            <a:noFill/>
          </a:ln>
        </p:spPr>
      </p:pic>
      <p:pic>
        <p:nvPicPr>
          <p:cNvPr id="119" name="文本框 3" descr=""/>
          <p:cNvPicPr/>
          <p:nvPr/>
        </p:nvPicPr>
        <p:blipFill>
          <a:blip r:embed="rId2"/>
          <a:stretch/>
        </p:blipFill>
        <p:spPr>
          <a:xfrm>
            <a:off x="-36360" y="-241200"/>
            <a:ext cx="6416640" cy="6740280"/>
          </a:xfrm>
          <a:prstGeom prst="rect">
            <a:avLst/>
          </a:prstGeom>
          <a:ln w="0">
            <a:noFill/>
          </a:ln>
        </p:spPr>
      </p:pic>
      <p:sp>
        <p:nvSpPr>
          <p:cNvPr id="120" name="文本框 4"/>
          <p:cNvSpPr/>
          <p:nvPr/>
        </p:nvSpPr>
        <p:spPr>
          <a:xfrm>
            <a:off x="5208480" y="1044720"/>
            <a:ext cx="356724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池塘里的水泡泡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能当个小句号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荷叶上的一串水珠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们可以当省略号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青蛙的诗写成了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呱呱，呱呱，呱呱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呱呱，呱呱，呱呱呱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文本框 99"/>
          <p:cNvSpPr/>
          <p:nvPr/>
        </p:nvSpPr>
        <p:spPr>
          <a:xfrm>
            <a:off x="747720" y="1692360"/>
            <a:ext cx="798192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标点符号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句号（。）是个小圆点，用它表示话说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逗号（，）小点带尾巴，句内停顿要用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省略号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六个点，表示意思还没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矩形 2" descr=""/>
          <p:cNvPicPr/>
          <p:nvPr/>
        </p:nvPicPr>
        <p:blipFill>
          <a:blip r:embed="rId1"/>
          <a:stretch/>
        </p:blipFill>
        <p:spPr>
          <a:xfrm>
            <a:off x="933480" y="263520"/>
            <a:ext cx="247644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1"/>
          <p:cNvSpPr/>
          <p:nvPr/>
        </p:nvSpPr>
        <p:spPr>
          <a:xfrm>
            <a:off x="480960" y="1461960"/>
            <a:ext cx="833292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号（？）好像耳朵样，表示一句问话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叹号（！）像个小炸弹，表示惊喜和感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号（“”）好像小蝌蚪，内放引文或对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冒号（：）小小两圆点，要说话儿写后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291960" y="3220560"/>
            <a:ext cx="815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早晨（ ）太阳升起来了（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2427840" y="322596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7873920" y="3125880"/>
            <a:ext cx="43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539640" y="3010680"/>
            <a:ext cx="820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我们要爱护小青蛙（ 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7380360" y="2924280"/>
            <a:ext cx="43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图片1"/>
          <p:cNvPicPr/>
          <p:nvPr/>
        </p:nvPicPr>
        <p:blipFill>
          <a:blip r:embed="rId1"/>
          <a:stretch/>
        </p:blipFill>
        <p:spPr>
          <a:xfrm>
            <a:off x="0" y="-1238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2"/>
          <a:stretch/>
        </p:blipFill>
        <p:spPr>
          <a:xfrm rot="20916600">
            <a:off x="6300720" y="3499920"/>
            <a:ext cx="503280" cy="4161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4120" y="498240"/>
            <a:ext cx="71755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99"/>
                </a:solidFill>
                <a:latin typeface="黑体"/>
                <a:ea typeface="黑体"/>
              </a:rPr>
              <a:t>青 蛙 写 诗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468360" y="215640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公园里的花五颜六色，有红的、黄的、粉的（         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310120" y="2997360"/>
            <a:ext cx="148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宋体"/>
              </a:rPr>
              <a:t>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1" descr="图片1"/>
          <p:cNvPicPr/>
          <p:nvPr/>
        </p:nvPicPr>
        <p:blipFill>
          <a:blip r:embed="rId1"/>
          <a:stretch/>
        </p:blipFill>
        <p:spPr>
          <a:xfrm>
            <a:off x="-36360" y="-120600"/>
            <a:ext cx="9216720" cy="7101000"/>
          </a:xfrm>
          <a:prstGeom prst="rect">
            <a:avLst/>
          </a:prstGeom>
          <a:ln w="0">
            <a:noFill/>
          </a:ln>
        </p:spPr>
      </p:pic>
      <p:pic>
        <p:nvPicPr>
          <p:cNvPr id="132" name="文本框 3" descr=""/>
          <p:cNvPicPr/>
          <p:nvPr/>
        </p:nvPicPr>
        <p:blipFill>
          <a:blip r:embed="rId2"/>
          <a:stretch/>
        </p:blipFill>
        <p:spPr>
          <a:xfrm>
            <a:off x="-36360" y="-241200"/>
            <a:ext cx="6416640" cy="6740280"/>
          </a:xfrm>
          <a:prstGeom prst="rect">
            <a:avLst/>
          </a:prstGeom>
          <a:ln w="0">
            <a:noFill/>
          </a:ln>
        </p:spPr>
      </p:pic>
      <p:sp>
        <p:nvSpPr>
          <p:cNvPr id="133" name="文本框 4"/>
          <p:cNvSpPr/>
          <p:nvPr/>
        </p:nvSpPr>
        <p:spPr>
          <a:xfrm>
            <a:off x="5208480" y="1044720"/>
            <a:ext cx="356724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池塘里的水泡泡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能当个小句号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荷叶上的一串水珠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们可以当省略号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青蛙的诗写成了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呱呱，呱呱，呱呱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呱呱，呱呱，呱呱呱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图片1"/>
          <p:cNvPicPr/>
          <p:nvPr/>
        </p:nvPicPr>
        <p:blipFill>
          <a:blip r:embed="rId1"/>
          <a:stretch/>
        </p:blipFill>
        <p:spPr>
          <a:xfrm>
            <a:off x="0" y="-177840"/>
            <a:ext cx="9144000" cy="7094520"/>
          </a:xfrm>
          <a:prstGeom prst="rect">
            <a:avLst/>
          </a:prstGeom>
          <a:ln w="0">
            <a:noFill/>
          </a:ln>
        </p:spPr>
      </p:pic>
      <p:pic>
        <p:nvPicPr>
          <p:cNvPr id="135" name="青蛙" descr=""/>
          <p:cNvPicPr/>
          <p:nvPr/>
        </p:nvPicPr>
        <p:blipFill>
          <a:blip r:embed="rId2"/>
          <a:stretch/>
        </p:blipFill>
        <p:spPr>
          <a:xfrm>
            <a:off x="376200" y="5996160"/>
            <a:ext cx="61920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8" dur="30772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过河"/>
          <p:cNvPicPr/>
          <p:nvPr/>
        </p:nvPicPr>
        <p:blipFill>
          <a:blip r:embed="rId1"/>
          <a:stretch/>
        </p:blipFill>
        <p:spPr>
          <a:xfrm>
            <a:off x="0" y="-61920"/>
            <a:ext cx="9144000" cy="6946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"/>
          <p:cNvPicPr/>
          <p:nvPr/>
        </p:nvPicPr>
        <p:blipFill>
          <a:blip r:embed="rId2"/>
          <a:stretch/>
        </p:blipFill>
        <p:spPr>
          <a:xfrm>
            <a:off x="982800" y="4368960"/>
            <a:ext cx="842760" cy="569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3"/>
          <a:stretch/>
        </p:blipFill>
        <p:spPr>
          <a:xfrm>
            <a:off x="1587600" y="4689360"/>
            <a:ext cx="844560" cy="569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"/>
          <p:cNvPicPr/>
          <p:nvPr/>
        </p:nvPicPr>
        <p:blipFill>
          <a:blip r:embed="rId4"/>
          <a:stretch/>
        </p:blipFill>
        <p:spPr>
          <a:xfrm>
            <a:off x="2362320" y="4799160"/>
            <a:ext cx="842760" cy="571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"/>
          <p:cNvPicPr/>
          <p:nvPr/>
        </p:nvPicPr>
        <p:blipFill>
          <a:blip r:embed="rId5"/>
          <a:stretch/>
        </p:blipFill>
        <p:spPr>
          <a:xfrm>
            <a:off x="3263760" y="4933800"/>
            <a:ext cx="843120" cy="571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"/>
          <p:cNvPicPr/>
          <p:nvPr/>
        </p:nvPicPr>
        <p:blipFill>
          <a:blip r:embed="rId6"/>
          <a:stretch/>
        </p:blipFill>
        <p:spPr>
          <a:xfrm>
            <a:off x="4200480" y="5003640"/>
            <a:ext cx="843120" cy="570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"/>
          <p:cNvPicPr/>
          <p:nvPr/>
        </p:nvPicPr>
        <p:blipFill>
          <a:blip r:embed="rId7"/>
          <a:stretch/>
        </p:blipFill>
        <p:spPr>
          <a:xfrm>
            <a:off x="5105520" y="4941720"/>
            <a:ext cx="844560" cy="570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8"/>
          <a:stretch/>
        </p:blipFill>
        <p:spPr>
          <a:xfrm>
            <a:off x="6043680" y="4799160"/>
            <a:ext cx="842760" cy="571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"/>
          <p:cNvPicPr/>
          <p:nvPr/>
        </p:nvPicPr>
        <p:blipFill>
          <a:blip r:embed="rId9"/>
          <a:stretch/>
        </p:blipFill>
        <p:spPr>
          <a:xfrm>
            <a:off x="6969240" y="4510080"/>
            <a:ext cx="842760" cy="5716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2"/>
          <p:cNvSpPr/>
          <p:nvPr/>
        </p:nvSpPr>
        <p:spPr>
          <a:xfrm>
            <a:off x="250920" y="3213000"/>
            <a:ext cx="7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1111320" y="3689280"/>
            <a:ext cx="7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1835280" y="3981600"/>
            <a:ext cx="7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2567160" y="4170240"/>
            <a:ext cx="7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3398760" y="4365720"/>
            <a:ext cx="7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4255920" y="4408560"/>
            <a:ext cx="7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5108400" y="4325760"/>
            <a:ext cx="7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6013440" y="4197240"/>
            <a:ext cx="7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6832440" y="3938760"/>
            <a:ext cx="7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7758000" y="3664080"/>
            <a:ext cx="7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>
            <a:off x="8461440" y="2965320"/>
            <a:ext cx="7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"/>
          <p:cNvPicPr/>
          <p:nvPr/>
        </p:nvPicPr>
        <p:blipFill>
          <a:blip r:embed="rId10"/>
          <a:stretch/>
        </p:blipFill>
        <p:spPr>
          <a:xfrm>
            <a:off x="7977240" y="4365720"/>
            <a:ext cx="842760" cy="541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"/>
          <p:cNvPicPr/>
          <p:nvPr/>
        </p:nvPicPr>
        <p:blipFill>
          <a:blip r:embed="rId11"/>
          <a:stretch/>
        </p:blipFill>
        <p:spPr>
          <a:xfrm>
            <a:off x="200160" y="3876840"/>
            <a:ext cx="757080" cy="531720"/>
          </a:xfrm>
          <a:prstGeom prst="rect">
            <a:avLst/>
          </a:prstGeom>
          <a:ln w="0">
            <a:noFill/>
          </a:ln>
        </p:spPr>
      </p:pic>
      <p:pic>
        <p:nvPicPr>
          <p:cNvPr id="69" name="矩形 1" descr=""/>
          <p:cNvPicPr/>
          <p:nvPr/>
        </p:nvPicPr>
        <p:blipFill>
          <a:blip r:embed="rId12"/>
          <a:stretch/>
        </p:blipFill>
        <p:spPr>
          <a:xfrm>
            <a:off x="365040" y="907920"/>
            <a:ext cx="3038400" cy="92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"/>
                            </p:stCondLst>
                            <p:childTnLst>
                              <p:par>
                                <p:cTn id="38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84 0.02654 C 0.02084 0.02747 0.02518 0.02809 0.02917 0.02932 C 0.03091 0.02994 0.03264 0.03148 0.03421 0.03241 C 0.04046 0.0358 0.03907 0.03488 0.04514 0.03673 C 0.04705 0.03827 0.04896 0.03982 0.05087 0.04136 C 0.05261 0.04228 0.05434 0.0429 0.05591 0.04414 C 0.0573 0.04537 0.05869 0.04722 0.06007 0.04877 C 0.06112 0.04969 0.06233 0.05031 0.06337 0.05154 C 0.06459 0.05278 0.06563 0.05463 0.06667 0.05617 C 0.06754 0.0571 0.06841 0.05802 0.06928 0.05895 C 0.07032 0.06049 0.07136 0.06235 0.07257 0.06358 C 0.08195 0.07315 0.06441 0.05093 0.07917 0.06944 C 0.08577 0.07747 0.08073 0.07438 0.08837 0.07685 C 0.08889 0.0784 0.08924 0.08025 0.09011 0.08117 C 0.0915 0.08302 0.09497 0.08426 0.09497 0.08426 C 0.0974 0.09043 0.09671 0.08704 0.09671 0.09475 E">
                                      <p:cBhvr>
                                        <p:cTn id="39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"/>
                            </p:stCondLst>
                            <p:childTnLst>
                              <p:par>
                                <p:cTn id="53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671 0.09506 C 0.11164 0.09444 0.11146 0.09567 0.12066 0.09321 C 0.12188 0.0929 0.12292 0.09259 0.12414 0.09228 C 0.12691 0.09166 0.13247 0.09105 0.13247 0.09105 C 0.14011 0.09105 0.1474 0.09105 0.15487 0.09135 C 0.15643 0.09166 0.15955 0.09259 0.16094 0.09321 C 0.16563 0.10061 0.16007 0.09135 0.16337 0.09845 C 0.16389 0.09938 0.16494 0.1003 0.16511 0.10092 C 0.16598 0.10246 0.16719 0.10617 0.16719 0.10617 C 0.16667 0.1108 0.16632 0.11574 0.16598 0.12098 C 0.16546 0.1287 0.16615 0.12654 0.16424 0.13024 L 0.16424 0.13086 E">
                                      <p:cBhvr>
                                        <p:cTn id="54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"/>
                            </p:stCondLst>
                            <p:childTnLst>
                              <p:par>
                                <p:cTn id="68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101 0.15247 C 0.17396 0.1534 0.17709 0.15401 0.18004 0.15525 C 0.18178 0.15617 0.18334 0.15741 0.18507 0.15833 C 0.18594 0.15864 0.18664 0.15957 0.1875 0.15988 L 0.19428 0.16142 C 0.20053 0.16698 0.19497 0.16265 0.20504 0.16574 C 0.20764 0.16667 0.21007 0.16821 0.2125 0.16883 C 0.21702 0.17006 0.23195 0.1713 0.23507 0.17161 C 0.23594 0.17253 0.23941 0.17593 0.24098 0.17623 C 0.24358 0.17654 0.24653 0.17623 0.24931 0.17623 E">
                                      <p:cBhvr>
                                        <p:cTn id="69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"/>
                            </p:stCondLst>
                            <p:childTnLst>
                              <p:par>
                                <p:cTn id="83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007 0.17901 C 0.26285 0.17809 0.26563 0.17716 0.26841 0.17623 C 0.2691 0.17562 0.26997 0.175 0.27084 0.17469 C 0.27969 0.17006 0.26719 0.17716 0.27917 0.17037 C 0.29254 0.17068 0.30591 0.17037 0.3191 0.17161 C 0.32066 0.17191 0.32188 0.17407 0.32327 0.17469 C 0.32622 0.17593 0.3283 0.17531 0.33091 0.17747 C 0.33733 0.18333 0.32952 0.1784 0.33577 0.1821 L 0.34428 0.19691 E">
                                      <p:cBhvr>
                                        <p:cTn id="84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"/>
                            </p:stCondLst>
                            <p:childTnLst>
                              <p:par>
                                <p:cTn id="98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768 0.18796 C 0.34601 0.18735 0.35434 0.18735 0.36268 0.18642 C 0.36407 0.18642 0.36528 0.18549 0.36684 0.18488 C 0.36893 0.18426 0.37119 0.18395 0.37344 0.18364 C 0.37761 0.18395 0.38178 0.18395 0.38594 0.18488 C 0.38803 0.18549 0.38976 0.18704 0.39184 0.18796 C 0.39601 0.18982 0.39879 0.19012 0.40348 0.19105 C 0.40434 0.19136 0.40521 0.19167 0.40591 0.19228 C 0.40834 0.19414 0.41094 0.19722 0.41337 0.19846 C 0.41598 0.19938 0.41841 0.19938 0.42101 0.19969 C 0.42205 0.20031 0.42327 0.20062 0.42431 0.20123 C 0.42518 0.20185 0.42587 0.20247 0.42674 0.20278 C 0.43004 0.20432 0.43351 0.20494 0.43681 0.20586 C 0.4382 0.20679 0.43976 0.20741 0.44098 0.20864 C 0.44202 0.20988 0.44254 0.21204 0.44341 0.21327 C 0.4448 0.21482 0.44549 0.21451 0.44688 0.21451 L 0.44688 0.21173 E">
                                      <p:cBhvr>
                                        <p:cTn id="99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"/>
                            </p:stCondLst>
                            <p:childTnLst>
                              <p:par>
                                <p:cTn id="113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261 0.21019 C 0.45521 0.20957 0.45816 0.20957 0.46077 0.20864 C 0.46181 0.20802 0.4625 0.20648 0.46337 0.20556 C 0.46494 0.20432 0.46667 0.20401 0.46841 0.20278 C 0.46928 0.20185 0.46997 0.20031 0.47084 0.19969 C 0.4724 0.19846 0.47414 0.19784 0.47587 0.19691 C 0.47674 0.1963 0.47744 0.19568 0.4783 0.19537 C 0.48056 0.19444 0.48282 0.19352 0.48507 0.19228 L 0.4875 0.19105 L 0.51164 0.19228 C 0.51441 0.19259 0.51719 0.1929 0.51997 0.19383 C 0.52171 0.19444 0.52327 0.19599 0.525 0.19691 L 0.5283 0.19815 C 0.52917 0.19938 0.52987 0.20062 0.53091 0.20123 C 0.53247 0.20247 0.53421 0.20309 0.53577 0.20401 C 0.54063 0.2071 0.5375 0.20556 0.54584 0.20556 L 0.54757 0.20556 E">
                                      <p:cBhvr>
                                        <p:cTn id="114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"/>
                            </p:stCondLst>
                            <p:childTnLst>
                              <p:par>
                                <p:cTn id="128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4341 0.20278 C 0.54723 0.20123 0.55174 0.20216 0.55504 0.19815 C 0.55591 0.19722 0.5566 0.19599 0.55747 0.19537 C 0.55903 0.19383 0.56181 0.19321 0.56337 0.19228 C 0.56615 0.19074 0.56945 0.18735 0.57257 0.18642 C 0.57553 0.18549 0.57865 0.18457 0.58178 0.18364 C 0.58264 0.18302 0.58334 0.18241 0.58421 0.1821 C 0.58612 0.18148 0.59514 0.17932 0.59671 0.17901 C 0.59757 0.1787 0.59844 0.17778 0.59931 0.17747 C 0.60382 0.17593 0.60799 0.17593 0.6125 0.17469 C 0.61563 0.17377 0.61875 0.17284 0.62171 0.17161 C 0.62292 0.1713 0.62396 0.17037 0.62518 0.17037 C 0.63542 0.16821 0.63994 0.16883 0.65105 0.16883 L 0.65105 0.17037 E">
                                      <p:cBhvr>
                                        <p:cTn id="129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"/>
                            </p:stCondLst>
                            <p:childTnLst>
                              <p:par>
                                <p:cTn id="143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5434 0.16451 C 0.65816 0.16327 0.66216 0.16358 0.66598 0.16142 C 0.67518 0.15586 0.67188 0.15401 0.67761 0.14815 C 0.6783 0.14722 0.67934 0.14722 0.68004 0.14661 C 0.68403 0.14259 0.68507 0.14043 0.68837 0.13611 C 0.69011 0.13395 0.69167 0.13179 0.69341 0.13025 C 0.6948 0.12901 0.69619 0.12809 0.69757 0.12716 C 0.70313 0.11759 0.69653 0.12716 0.70434 0.1213 C 0.70556 0.12037 0.70643 0.1179 0.70764 0.11667 C 0.70869 0.11574 0.7099 0.11574 0.71094 0.11543 C 0.71181 0.11482 0.71268 0.11451 0.71337 0.11389 C 0.71546 0.11235 0.71737 0.1108 0.71928 0.10926 C 0.72084 0.10833 0.72275 0.10772 0.72431 0.10648 C 0.7257 0.10525 0.72691 0.10309 0.72848 0.10185 C 0.72952 0.10093 0.73073 0.10093 0.73178 0.10031 C 0.73264 0.1 0.73351 0.09938 0.73421 0.09907 C 0.73907 0.09938 0.74375 0.09907 0.74844 0.10031 C 0.75018 0.10093 0.75434 0.10895 0.75261 0.11235 L 0.75174 0.11389 L 0.75174 0.11235 E">
                                      <p:cBhvr>
                                        <p:cTn id="144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"/>
                            </p:stCondLst>
                            <p:childTnLst>
                              <p:par>
                                <p:cTn id="158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6007 0.10957 C 0.76216 0.10556 0.76459 0.10154 0.76667 0.09753 C 0.76754 0.09568 0.76806 0.09321 0.7691 0.09167 C 0.7698 0.09074 0.77084 0.09074 0.77171 0.09012 C 0.77657 0.0858 0.77171 0.08827 0.77744 0.08426 C 0.77865 0.08364 0.77969 0.08333 0.78091 0.08272 C 0.7816 0.08241 0.78247 0.08179 0.78334 0.08117 C 0.78473 0.08025 0.78594 0.0787 0.7875 0.0784 C 0.79132 0.07716 0.79532 0.07747 0.79914 0.07685 C 0.80087 0.07623 0.80244 0.07562 0.80417 0.07531 C 0.82362 0.07222 0.8125 0.07593 0.82257 0.07253 C 0.82674 0.07284 0.83091 0.07315 0.83507 0.07377 C 0.83924 0.07469 0.83959 0.07531 0.84341 0.07685 C 0.8448 0.07747 0.84619 0.07778 0.84757 0.0784 C 0.84844 0.0787 0.84914 0.07932 0.85 0.07994 C 0.85105 0.08025 0.85226 0.08086 0.8533 0.08117 C 0.85417 0.08241 0.85487 0.08364 0.85591 0.08426 C 0.85695 0.08488 0.85816 0.08519 0.85921 0.0858 C 0.85973 0.08611 0.86025 0.08673 0.86094 0.08735 E">
                                      <p:cBhvr>
                                        <p:cTn id="159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6511 0.08426 C 0.86528 0.07963 0.86546 0.07531 0.8658 0.07068 C 0.86598 0.06914 0.86667 0.0679 0.86667 0.06636 C 0.86719 0.04506 0.86702 0.02407 0.86754 0.00278 C 0.86754 0.00031 0.86789 -0.00216 0.86841 -0.00463 C 0.86875 -0.00648 0.86962 -0.00741 0.86997 -0.00895 C 0.87049 -0.01049 0.87049 -0.01204 0.87084 -0.01358 C 0.87327 -0.02222 0.87309 -0.01512 0.87744 -0.02685 C 0.87934 -0.03179 0.87917 -0.03241 0.88247 -0.0358 C 0.88785 -0.04136 0.88178 -0.03179 0.88837 -0.04012 C 0.89254 -0.04568 0.88889 -0.04352 0.89341 -0.04753 C 0.8941 -0.04815 0.89584 -0.04907 0.89584 -0.04907 L 0.89757 -0.05185 E">
                                      <p:cBhvr>
                                        <p:cTn id="171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1" descr="图片1"/>
          <p:cNvPicPr/>
          <p:nvPr/>
        </p:nvPicPr>
        <p:blipFill>
          <a:blip r:embed="rId1"/>
          <a:stretch/>
        </p:blipFill>
        <p:spPr>
          <a:xfrm>
            <a:off x="-36360" y="-120600"/>
            <a:ext cx="9216720" cy="7101000"/>
          </a:xfrm>
          <a:prstGeom prst="rect">
            <a:avLst/>
          </a:prstGeom>
          <a:ln w="0">
            <a:noFill/>
          </a:ln>
        </p:spPr>
      </p:pic>
      <p:pic>
        <p:nvPicPr>
          <p:cNvPr id="71" name="文本框 3" descr=""/>
          <p:cNvPicPr/>
          <p:nvPr/>
        </p:nvPicPr>
        <p:blipFill>
          <a:blip r:embed="rId2"/>
          <a:stretch/>
        </p:blipFill>
        <p:spPr>
          <a:xfrm>
            <a:off x="-36360" y="-241200"/>
            <a:ext cx="6416640" cy="6740280"/>
          </a:xfrm>
          <a:prstGeom prst="rect">
            <a:avLst/>
          </a:prstGeom>
          <a:ln w="0">
            <a:noFill/>
          </a:ln>
        </p:spPr>
      </p:pic>
      <p:sp>
        <p:nvSpPr>
          <p:cNvPr id="72" name="文本框 4"/>
          <p:cNvSpPr/>
          <p:nvPr/>
        </p:nvSpPr>
        <p:spPr>
          <a:xfrm>
            <a:off x="5208480" y="1044720"/>
            <a:ext cx="356724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池塘里的水泡泡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能当个小句号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荷叶上的一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串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水珠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们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可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当省略号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青蛙的诗写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成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了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呱呱，呱呱，呱呱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呱呱，呱呱，呱呱呱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 rot="20916600">
            <a:off x="6300720" y="3499920"/>
            <a:ext cx="503280" cy="416160"/>
          </a:xfrm>
          <a:prstGeom prst="rect">
            <a:avLst/>
          </a:prstGeom>
          <a:ln w="0">
            <a:noFill/>
          </a:ln>
        </p:spPr>
      </p:pic>
      <p:sp>
        <p:nvSpPr>
          <p:cNvPr id="75" name="文本框 1"/>
          <p:cNvSpPr/>
          <p:nvPr/>
        </p:nvSpPr>
        <p:spPr>
          <a:xfrm>
            <a:off x="-109440" y="787320"/>
            <a:ext cx="9362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ff"/>
                </a:solidFill>
                <a:latin typeface="黑体"/>
                <a:ea typeface="黑体"/>
              </a:rPr>
              <a:t>   </a:t>
            </a:r>
            <a:r>
              <a:rPr b="1" lang="zh-CN" sz="4400" spc="-1" strike="noStrike">
                <a:solidFill>
                  <a:srgbClr val="6600ff"/>
                </a:solidFill>
                <a:latin typeface="黑体"/>
                <a:ea typeface="黑体"/>
              </a:rPr>
              <a:t>在青蛙写诗的时候，都有谁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黑体"/>
                <a:ea typeface="黑体"/>
              </a:rPr>
              <a:t>帮忙了？他们帮了什么忙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2" descr="图片2"/>
          <p:cNvPicPr/>
          <p:nvPr/>
        </p:nvPicPr>
        <p:blipFill>
          <a:blip r:embed="rId1"/>
          <a:srcRect l="9669" t="441" r="0" b="-434"/>
          <a:stretch/>
        </p:blipFill>
        <p:spPr>
          <a:xfrm>
            <a:off x="-25560" y="1440"/>
            <a:ext cx="9169560" cy="6937560"/>
          </a:xfrm>
          <a:prstGeom prst="rect">
            <a:avLst/>
          </a:prstGeom>
          <a:ln w="0">
            <a:noFill/>
          </a:ln>
        </p:spPr>
      </p:pic>
      <p:grpSp>
        <p:nvGrpSpPr>
          <p:cNvPr id="77" name="组合 8"/>
          <p:cNvGrpSpPr/>
          <p:nvPr/>
        </p:nvGrpSpPr>
        <p:grpSpPr>
          <a:xfrm>
            <a:off x="357120" y="1504800"/>
            <a:ext cx="2597040" cy="2579760"/>
            <a:chOff x="357120" y="1504800"/>
            <a:chExt cx="2597040" cy="2579760"/>
          </a:xfrm>
        </p:grpSpPr>
        <p:sp>
          <p:nvSpPr>
            <p:cNvPr id="78" name="TextBox 3"/>
            <p:cNvSpPr/>
            <p:nvPr/>
          </p:nvSpPr>
          <p:spPr>
            <a:xfrm>
              <a:off x="767520" y="3342960"/>
              <a:ext cx="1928520" cy="7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51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ff"/>
                  </a:solidFill>
                  <a:latin typeface="黑体"/>
                  <a:ea typeface="黑体"/>
                </a:rPr>
                <a:t>小蝌蚪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图片 5" descr=""/>
            <p:cNvPicPr/>
            <p:nvPr/>
          </p:nvPicPr>
          <p:blipFill>
            <a:blip r:embed="rId2"/>
            <a:stretch/>
          </p:blipFill>
          <p:spPr>
            <a:xfrm>
              <a:off x="357120" y="1504800"/>
              <a:ext cx="2597040" cy="183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" name="组合 1"/>
          <p:cNvGrpSpPr/>
          <p:nvPr/>
        </p:nvGrpSpPr>
        <p:grpSpPr>
          <a:xfrm>
            <a:off x="3359160" y="2050920"/>
            <a:ext cx="1927080" cy="2928960"/>
            <a:chOff x="3359160" y="2050920"/>
            <a:chExt cx="1927080" cy="2928960"/>
          </a:xfrm>
        </p:grpSpPr>
        <p:sp>
          <p:nvSpPr>
            <p:cNvPr id="81" name="TextBox 3"/>
            <p:cNvSpPr/>
            <p:nvPr/>
          </p:nvSpPr>
          <p:spPr>
            <a:xfrm>
              <a:off x="3359160" y="2050920"/>
              <a:ext cx="1927080" cy="7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51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ff"/>
                  </a:solidFill>
                  <a:latin typeface="黑体"/>
                  <a:ea typeface="黑体"/>
                </a:rPr>
                <a:t>水泡泡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图片 6" descr="u=1371531729,1214132993&amp;fm=21&amp;gp=0.jpg"/>
            <p:cNvPicPr/>
            <p:nvPr/>
          </p:nvPicPr>
          <p:blipFill>
            <a:blip r:embed="rId3"/>
            <a:srcRect l="43297" t="0" r="0" b="6889"/>
            <a:stretch/>
          </p:blipFill>
          <p:spPr>
            <a:xfrm>
              <a:off x="3447720" y="3154680"/>
              <a:ext cx="1584000" cy="1825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组合 10"/>
          <p:cNvGrpSpPr/>
          <p:nvPr/>
        </p:nvGrpSpPr>
        <p:grpSpPr>
          <a:xfrm>
            <a:off x="5891040" y="2697120"/>
            <a:ext cx="2928960" cy="2800440"/>
            <a:chOff x="5891040" y="2697120"/>
            <a:chExt cx="2928960" cy="2800440"/>
          </a:xfrm>
        </p:grpSpPr>
        <p:sp>
          <p:nvSpPr>
            <p:cNvPr id="84" name="TextBox 3"/>
            <p:cNvSpPr/>
            <p:nvPr/>
          </p:nvSpPr>
          <p:spPr>
            <a:xfrm>
              <a:off x="5891040" y="2697120"/>
              <a:ext cx="2928960" cy="7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51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ff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ff00ff"/>
                  </a:solidFill>
                  <a:latin typeface="黑体"/>
                  <a:ea typeface="黑体"/>
                </a:rPr>
                <a:t>一串水珠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Picture 4" descr=""/>
            <p:cNvPicPr/>
            <p:nvPr/>
          </p:nvPicPr>
          <p:blipFill>
            <a:blip r:embed="rId4"/>
            <a:stretch/>
          </p:blipFill>
          <p:spPr>
            <a:xfrm>
              <a:off x="5990760" y="3675960"/>
              <a:ext cx="2728800" cy="1821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2" descr="图片2"/>
          <p:cNvPicPr/>
          <p:nvPr/>
        </p:nvPicPr>
        <p:blipFill>
          <a:blip r:embed="rId1"/>
          <a:srcRect l="9669" t="448" r="0" b="-441"/>
          <a:stretch/>
        </p:blipFill>
        <p:spPr>
          <a:xfrm>
            <a:off x="-25560" y="1440"/>
            <a:ext cx="9169560" cy="6937560"/>
          </a:xfrm>
          <a:prstGeom prst="rect">
            <a:avLst/>
          </a:prstGeom>
          <a:ln w="0">
            <a:noFill/>
          </a:ln>
        </p:spPr>
      </p:pic>
      <p:sp>
        <p:nvSpPr>
          <p:cNvPr id="87" name="矩形 1"/>
          <p:cNvSpPr/>
          <p:nvPr/>
        </p:nvSpPr>
        <p:spPr>
          <a:xfrm>
            <a:off x="701640" y="1617840"/>
            <a:ext cx="6381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蝌蚪游过来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要给你当个小逗号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8"/>
          <p:cNvSpPr/>
          <p:nvPr/>
        </p:nvSpPr>
        <p:spPr>
          <a:xfrm>
            <a:off x="609480" y="3664080"/>
            <a:ext cx="68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思考：小蝌蚪游过来干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9"/>
          <p:cNvSpPr/>
          <p:nvPr/>
        </p:nvSpPr>
        <p:spPr>
          <a:xfrm>
            <a:off x="452520" y="45277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小蝌蚪游过来给青蛙的诗当个小逗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2"/>
          <a:stretch/>
        </p:blipFill>
        <p:spPr>
          <a:xfrm>
            <a:off x="5794200" y="1089000"/>
            <a:ext cx="277668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2" descr="图片2"/>
          <p:cNvPicPr/>
          <p:nvPr/>
        </p:nvPicPr>
        <p:blipFill>
          <a:blip r:embed="rId1"/>
          <a:srcRect l="9669" t="448" r="0" b="-441"/>
          <a:stretch/>
        </p:blipFill>
        <p:spPr>
          <a:xfrm>
            <a:off x="-25560" y="1440"/>
            <a:ext cx="9169560" cy="6937560"/>
          </a:xfrm>
          <a:prstGeom prst="rect">
            <a:avLst/>
          </a:prstGeom>
          <a:ln w="0">
            <a:noFill/>
          </a:ln>
        </p:spPr>
      </p:pic>
      <p:sp>
        <p:nvSpPr>
          <p:cNvPr id="92" name="矩形 1"/>
          <p:cNvSpPr/>
          <p:nvPr/>
        </p:nvSpPr>
        <p:spPr>
          <a:xfrm>
            <a:off x="422280" y="1461960"/>
            <a:ext cx="5470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池塘里的水泡泡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能当个小句号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"/>
          <p:cNvSpPr/>
          <p:nvPr/>
        </p:nvSpPr>
        <p:spPr>
          <a:xfrm>
            <a:off x="576360" y="3917880"/>
            <a:ext cx="675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思考：水泡泡为什么能当小句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5"/>
          <p:cNvSpPr/>
          <p:nvPr/>
        </p:nvSpPr>
        <p:spPr>
          <a:xfrm>
            <a:off x="722160" y="4741920"/>
            <a:ext cx="649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水泡泡圆圆的，很像句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4849920" y="1593720"/>
            <a:ext cx="286992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2" descr="图片2"/>
          <p:cNvPicPr/>
          <p:nvPr/>
        </p:nvPicPr>
        <p:blipFill>
          <a:blip r:embed="rId1"/>
          <a:srcRect l="9669" t="448" r="0" b="-441"/>
          <a:stretch/>
        </p:blipFill>
        <p:spPr>
          <a:xfrm>
            <a:off x="-25560" y="1440"/>
            <a:ext cx="9169560" cy="6937560"/>
          </a:xfrm>
          <a:prstGeom prst="rect">
            <a:avLst/>
          </a:prstGeom>
          <a:ln w="0">
            <a:noFill/>
          </a:ln>
        </p:spPr>
      </p:pic>
      <p:sp>
        <p:nvSpPr>
          <p:cNvPr id="97" name="矩形 1"/>
          <p:cNvSpPr/>
          <p:nvPr/>
        </p:nvSpPr>
        <p:spPr>
          <a:xfrm>
            <a:off x="1147680" y="1224000"/>
            <a:ext cx="4643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荷叶上的一串水珠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们可以当省略号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2"/>
          <a:stretch/>
        </p:blipFill>
        <p:spPr>
          <a:xfrm>
            <a:off x="5856120" y="1446120"/>
            <a:ext cx="2589480" cy="1839960"/>
          </a:xfrm>
          <a:prstGeom prst="rect">
            <a:avLst/>
          </a:prstGeom>
          <a:ln w="0">
            <a:noFill/>
          </a:ln>
        </p:spPr>
      </p:pic>
      <p:sp>
        <p:nvSpPr>
          <p:cNvPr id="99" name="矩形 9"/>
          <p:cNvSpPr/>
          <p:nvPr/>
        </p:nvSpPr>
        <p:spPr>
          <a:xfrm>
            <a:off x="2172960" y="351144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思考：为什么不说“一个水珠”当省略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0"/>
          <p:cNvSpPr/>
          <p:nvPr/>
        </p:nvSpPr>
        <p:spPr>
          <a:xfrm>
            <a:off x="961920" y="4387680"/>
            <a:ext cx="59594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省略号是六个的，一个不行的，一串排起来才有趣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9T03:54:08Z</dcterms:created>
  <dc:creator/>
  <dc:description/>
  <cp:keywords/>
  <dc:language>en-US</dc:language>
  <cp:lastModifiedBy>微软用户</cp:lastModifiedBy>
  <dcterms:modified xsi:type="dcterms:W3CDTF">2018-12-23T01:27:38Z</dcterms:modified>
  <cp:revision>14</cp:revision>
  <dc:subject/>
  <dc:title>身穿绿衣裳， 露着白肚皮， 专捉害虫保庄稼， 唱起歌来顶呱呱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7</vt:lpwstr>
  </property>
</Properties>
</file>