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TP_047.WAV" ContentType="audio/x-wav"/>
  <Override PartName="/ppt/media/image25.jpeg" ContentType="image/jpeg"/>
  <Override PartName="/ppt/media/image22.gif" ContentType="image/gif"/>
  <Override PartName="/ppt/media/image15.png" ContentType="image/png"/>
  <Override PartName="/ppt/media/explode.wav" ContentType="audio/x-wav"/>
  <Override PartName="/ppt/media/image7.jpeg" ContentType="image/jpeg"/>
  <Override PartName="/ppt/media/image16.png" ContentType="image/png"/>
  <Override PartName="/ppt/media/image6.jpeg" ContentType="image/jpeg"/>
  <Override PartName="/ppt/media/type.wav" ContentType="audio/x-wav"/>
  <Override PartName="/ppt/media/image3.jpeg" ContentType="image/jpeg"/>
  <Override PartName="/ppt/media/cashreg.wav" ContentType="audio/x-wav"/>
  <Override PartName="/ppt/media/laser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whoosh.wav" ContentType="audio/x-wav"/>
  <Override PartName="/ppt/media/image23.jpeg" ContentType="image/jpeg"/>
  <Override PartName="/ppt/media/image10.png" ContentType="image/png"/>
  <Override PartName="/ppt/media/image1.jpeg" ContentType="image/jpeg"/>
  <Override PartName="/ppt/media/image9.jpeg" ContentType="image/jpeg"/>
  <Override PartName="/ppt/media/image11.jpeg" ContentType="image/jpeg"/>
  <Override PartName="/ppt/media/image24.png" ContentType="image/png"/>
  <Override PartName="/ppt/media/image13.jpeg" ContentType="image/jpeg"/>
  <Override PartName="/ppt/media/image18.gif" ContentType="image/gif"/>
  <Override PartName="/ppt/media/image14.png" ContentType="image/png"/>
  <Override PartName="/ppt/media/image12.gif" ContentType="image/gif"/>
  <Override PartName="/ppt/media/image17.jpeg" ContentType="image/jpeg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C71-81A6-428B-B1C6-4AF63B5B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A72-0FB3-427A-8A60-499A790B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89A-477D-4506-94EC-4EBDE2CC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DD3-645D-431B-A5C3-2FC6DB9C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AC2-8D60-400C-A788-F3F90980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A18-6927-4591-AAFA-A7A42336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FC4-608F-43F3-B548-775FD0DE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D5C-9371-4FC1-89FB-81D94271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87D-55A7-4000-B01B-6259001B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75B-86D0-4E0E-974C-B46448E9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799-7A03-43B4-BD1A-47FBE26C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D16-2870-4108-A834-4BF64836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F7A5-D144-4BB8-BDDD-A9F6824F4F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5.png"/><Relationship Id="rId4" Type="http://schemas.openxmlformats.org/officeDocument/2006/relationships/audio" Target="../media/MTP_047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explode.wav"/><Relationship Id="rId6" Type="http://schemas.openxmlformats.org/officeDocument/2006/relationships/audio" Target="../media/whoosh.wav"/><Relationship Id="rId7" Type="http://schemas.openxmlformats.org/officeDocument/2006/relationships/audio" Target="../media/laser.wav"/><Relationship Id="rId8" Type="http://schemas.openxmlformats.org/officeDocument/2006/relationships/audio" Target="../media/type.wav"/><Relationship Id="rId9" Type="http://schemas.openxmlformats.org/officeDocument/2006/relationships/audio" Target="../media/laser.wav"/><Relationship Id="rId10" Type="http://schemas.openxmlformats.org/officeDocument/2006/relationships/audio" Target="../media/type.wav"/><Relationship Id="rId11" Type="http://schemas.openxmlformats.org/officeDocument/2006/relationships/audio" Target="../media/laser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kk2.ik8.com/T/gjtp/021.gif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olk.photo.qq.com/?file=4C4B050B3DBCD45C3F72DDA5A8A487DB124961788F37E7C4834C213FF65A029E" TargetMode="External"/><Relationship Id="rId3" Type="http://schemas.openxmlformats.org/officeDocument/2006/relationships/image" Target="../media/image12.gif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7400" y="9907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国际音标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字母在单词中的发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83200" y="2762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单元音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6600cc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83560" y="3448080"/>
            <a:ext cx="16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双元音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04080" y="4114800"/>
            <a:ext cx="21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Times New Roman"/>
              </a:rPr>
              <a:t>成对辅音</a:t>
            </a:r>
            <a:r>
              <a:rPr b="0" lang="zh-CN" sz="3200" spc="-1" strike="noStrike">
                <a:solidFill>
                  <a:srgbClr val="3399ff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3399ff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41160" y="4869000"/>
            <a:ext cx="19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Times New Roman"/>
              </a:rPr>
              <a:t>单个辅音</a:t>
            </a:r>
            <a:r>
              <a:rPr b="0" lang="zh-CN" sz="3200" spc="-1" strike="noStrike">
                <a:solidFill>
                  <a:srgbClr val="3399ff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3399ff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020960" cy="152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666880" y="5334120"/>
            <a:ext cx="714600" cy="1066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78400" y="1600200"/>
            <a:ext cx="418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元音： 发音时气流经过口腔不受阻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辅音：发音时气流经过口腔受到阻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581280" y="2971800"/>
            <a:ext cx="457200" cy="761760"/>
            <a:chOff x="3581280" y="2971800"/>
            <a:chExt cx="457200" cy="761760"/>
          </a:xfrm>
        </p:grpSpPr>
        <p:sp>
          <p:nvSpPr>
            <p:cNvPr id="51" name=""/>
            <p:cNvSpPr/>
            <p:nvPr/>
          </p:nvSpPr>
          <p:spPr>
            <a:xfrm flipH="1">
              <a:off x="3581280" y="2971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581280" y="327636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599920" y="29876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元 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5920" y="2743200"/>
            <a:ext cx="15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   [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3040" y="3505320"/>
            <a:ext cx="16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e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]  [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a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05320" y="4419720"/>
            <a:ext cx="457200" cy="761760"/>
            <a:chOff x="3505320" y="4419720"/>
            <a:chExt cx="457200" cy="761760"/>
          </a:xfrm>
        </p:grpSpPr>
        <p:sp>
          <p:nvSpPr>
            <p:cNvPr id="57" name=""/>
            <p:cNvSpPr/>
            <p:nvPr/>
          </p:nvSpPr>
          <p:spPr>
            <a:xfrm flipH="1">
              <a:off x="3505320" y="4419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05320" y="472428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30080" y="44197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辅 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6800" y="4114800"/>
            <a:ext cx="14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p]   [b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6800" y="4800600"/>
            <a:ext cx="14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m]  [n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47840" cy="2346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280" y="914400"/>
            <a:ext cx="316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[b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k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495680" y="1295280"/>
            <a:ext cx="299088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book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43400" y="3170160"/>
            <a:ext cx="24382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oo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字母组合在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k, d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前发短音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/u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514600" y="251460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oo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5880" y="251460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oo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67080" y="480060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oo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1794240" y="1949400"/>
            <a:ext cx="559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rial"/>
              </a:rPr>
              <a:t>g  d     f   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0760" y="4235400"/>
            <a:ext cx="207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rial"/>
              </a:rPr>
              <a:t>c  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1960" y="4419720"/>
            <a:ext cx="221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[ u 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71600" y="5218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7280" y="4876920"/>
            <a:ext cx="120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5410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43760" y="4937040"/>
            <a:ext cx="183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oo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字母组合在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k, d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前发短音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/u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24960" y="2590920"/>
            <a:ext cx="316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[s   n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>
            <a:biLevel thresh="50000"/>
          </a:blip>
          <a:srcRect l="75691" t="48203" r="16051" b="36337"/>
          <a:stretch/>
        </p:blipFill>
        <p:spPr>
          <a:xfrm>
            <a:off x="2590920" y="3132000"/>
            <a:ext cx="990360" cy="754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82520" y="4114800"/>
            <a:ext cx="214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14600" y="228600"/>
            <a:ext cx="2676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太阳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P_04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057400" y="4689360"/>
            <a:ext cx="7086600" cy="2168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90720" y="12826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39920" y="32767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5040" y="12952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680" y="1295280"/>
            <a:ext cx="613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rial"/>
              </a:rPr>
              <a:t>b  s          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7480" y="3276720"/>
            <a:ext cx="21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rial"/>
              </a:rPr>
              <a:t>c  t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53080" y="2362320"/>
            <a:ext cx="857520" cy="2181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0560" y="914400"/>
            <a:ext cx="254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[     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>
            <a:biLevel thresh="50000"/>
          </a:blip>
          <a:srcRect l="11849" t="48309" r="74353" b="33615"/>
          <a:stretch/>
        </p:blipFill>
        <p:spPr>
          <a:xfrm>
            <a:off x="1295280" y="1371600"/>
            <a:ext cx="1143000" cy="941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11320" y="137160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560" y="762120"/>
            <a:ext cx="157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87760" y="210816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6000" spc="-1" strike="noStrike">
                <a:solidFill>
                  <a:srgbClr val="ff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648320" y="14479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9810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1960" y="4419720"/>
            <a:ext cx="18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[   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>
            <a:biLevel thresh="50000"/>
          </a:blip>
          <a:srcRect l="75618" t="47437" r="15004" b="35518"/>
          <a:stretch/>
        </p:blipFill>
        <p:spPr>
          <a:xfrm>
            <a:off x="914400" y="48769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71600" y="5218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90240" y="4419720"/>
            <a:ext cx="11714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闭音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572000" y="53337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638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43760" y="4632480"/>
            <a:ext cx="14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6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3280" y="556272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6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2895480" y="380880"/>
            <a:ext cx="3886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看谁的发音最准哦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1280" y="1916280"/>
            <a:ext cx="25905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单元音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200400"/>
            <a:ext cx="1828800" cy="1143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3352680"/>
            <a:ext cx="1295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[i:]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3200400"/>
            <a:ext cx="1828800" cy="1143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71640" y="3357720"/>
            <a:ext cx="142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[ i ]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3213000"/>
            <a:ext cx="1828800" cy="11430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257800" y="3352680"/>
            <a:ext cx="1295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[ e ]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>
            <a:biLevel thresh="50000"/>
          </a:blip>
          <a:srcRect l="8160" t="6051" r="30415" b="0"/>
          <a:stretch/>
        </p:blipFill>
        <p:spPr>
          <a:xfrm>
            <a:off x="7086600" y="3200400"/>
            <a:ext cx="1685880" cy="1206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>
            <a:biLevel thresh="50000"/>
          </a:blip>
          <a:srcRect l="7895" t="38293" r="70878" b="27273"/>
          <a:stretch/>
        </p:blipFill>
        <p:spPr>
          <a:xfrm>
            <a:off x="1752480" y="4876920"/>
            <a:ext cx="1981440" cy="1523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>
            <a:biLevel thresh="50000"/>
          </a:blip>
          <a:srcRect l="67970" t="42389" r="8738" b="25872"/>
          <a:stretch/>
        </p:blipFill>
        <p:spPr>
          <a:xfrm>
            <a:off x="4419720" y="4876920"/>
            <a:ext cx="2438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505320" y="609480"/>
            <a:ext cx="2590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成对辅音：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38280" y="2209680"/>
            <a:ext cx="121932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[p]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943600" y="220968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[t]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7080" y="2209680"/>
            <a:ext cx="11430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[b]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0120" y="2247840"/>
            <a:ext cx="1143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[d]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38280" y="3505320"/>
            <a:ext cx="1143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[k]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67080" y="3543480"/>
            <a:ext cx="10670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"/>
              </a:rPr>
              <a:t>[g]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43600" y="3505320"/>
            <a:ext cx="10666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[f]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696080" y="3505320"/>
            <a:ext cx="10670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[v]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438280" y="5105520"/>
            <a:ext cx="10670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[s]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67080" y="5143680"/>
            <a:ext cx="10670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[z]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457200"/>
            <a:ext cx="49528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单个辅音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3880" y="3048120"/>
            <a:ext cx="2971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[m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505320" y="83808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元音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828800" y="838080"/>
            <a:ext cx="182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单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3279240" y="2895480"/>
            <a:ext cx="281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u: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581280" y="45720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元音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5120" y="380880"/>
            <a:ext cx="182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单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3278880" y="2895480"/>
            <a:ext cx="24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70160" y="2536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90920" y="2209680"/>
            <a:ext cx="38098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[n]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62520" y="838080"/>
            <a:ext cx="28954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辅音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05120" y="30492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单个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来练习一下拼读吧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038480" y="5181480"/>
            <a:ext cx="4114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拼得很准确，真棒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572000" y="914400"/>
            <a:ext cx="4572000" cy="676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923760"/>
            <a:ext cx="4572000" cy="67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2286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[n-</a:t>
            </a:r>
            <a:r>
              <a:rPr b="0" lang="zh-CN" sz="4800" spc="-1" strike="noStrike">
                <a:solidFill>
                  <a:srgbClr val="d60093"/>
                </a:solidFill>
                <a:latin typeface="Arial"/>
              </a:rPr>
              <a:t>u: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-n] ---[n</a:t>
            </a:r>
            <a:r>
              <a:rPr b="0" lang="zh-CN" sz="4800" spc="-1" strike="noStrike">
                <a:solidFill>
                  <a:srgbClr val="d60093"/>
                </a:solidFill>
                <a:latin typeface="Arial"/>
              </a:rPr>
              <a:t>u: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n]   [g-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-d]---[g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d]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[f-</a:t>
            </a:r>
            <a:r>
              <a:rPr b="0" lang="zh-CN" sz="4800" spc="-1" strike="noStrike">
                <a:solidFill>
                  <a:srgbClr val="d60093"/>
                </a:solidFill>
                <a:latin typeface="Arial"/>
              </a:rPr>
              <a:t>u: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-d]-----[f</a:t>
            </a:r>
            <a:r>
              <a:rPr b="0" lang="zh-CN" sz="4800" spc="-1" strike="noStrike">
                <a:solidFill>
                  <a:srgbClr val="d60093"/>
                </a:solidFill>
                <a:latin typeface="Arial"/>
              </a:rPr>
              <a:t>u: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d]    [f-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-t]----[f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t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[m-</a:t>
            </a:r>
            <a:r>
              <a:rPr b="0" lang="zh-CN" sz="4800" spc="-1" strike="noStrike">
                <a:solidFill>
                  <a:srgbClr val="d60093"/>
                </a:solidFill>
                <a:latin typeface="Arial"/>
              </a:rPr>
              <a:t>u: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-d]---[m</a:t>
            </a:r>
            <a:r>
              <a:rPr b="0" lang="zh-CN" sz="4800" spc="-1" strike="noStrike">
                <a:solidFill>
                  <a:srgbClr val="d60093"/>
                </a:solidFill>
                <a:latin typeface="Arial"/>
              </a:rPr>
              <a:t>u: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d]  [k-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-k]---[k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k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[s-</a:t>
            </a:r>
            <a:r>
              <a:rPr b="0" lang="zh-CN" sz="4800" spc="-1" strike="noStrike">
                <a:solidFill>
                  <a:srgbClr val="d60093"/>
                </a:solidFill>
                <a:latin typeface="Arial"/>
              </a:rPr>
              <a:t>u: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-n] –--[s</a:t>
            </a:r>
            <a:r>
              <a:rPr b="0" lang="zh-CN" sz="4800" spc="-1" strike="noStrike">
                <a:solidFill>
                  <a:srgbClr val="d60093"/>
                </a:solidFill>
                <a:latin typeface="Arial"/>
              </a:rPr>
              <a:t>u: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n]   [b-</a:t>
            </a:r>
            <a:r>
              <a:rPr b="0" lang="zh-CN" sz="4800" spc="-1" strike="noStrike">
                <a:solidFill>
                  <a:srgbClr val="d60093"/>
                </a:solidFill>
                <a:latin typeface="Arial"/>
              </a:rPr>
              <a:t>u: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-t]---[b</a:t>
            </a:r>
            <a:r>
              <a:rPr b="0" lang="zh-CN" sz="4800" spc="-1" strike="noStrike">
                <a:solidFill>
                  <a:srgbClr val="d60093"/>
                </a:solidFill>
                <a:latin typeface="Arial"/>
              </a:rPr>
              <a:t>u: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t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286000" y="6337440"/>
            <a:ext cx="68580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[b-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-k]       [l-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-k ]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[s-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u:</a:t>
            </a: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-n]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[z-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u:</a:t>
            </a:r>
            <a:r>
              <a:rPr b="1" lang="zh-CN" sz="6600" spc="-1" strike="noStrike">
                <a:solidFill>
                  <a:srgbClr val="d60093"/>
                </a:solidFill>
                <a:latin typeface="Arial"/>
              </a:rPr>
              <a:t>-n]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47920" y="685800"/>
            <a:ext cx="64767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测一测！你能读出下面的音标吗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438280" y="5562720"/>
            <a:ext cx="2667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真棒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77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77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9-08-16T05:39:21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